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9431"/>
        <c:axId val="32387498"/>
      </c:barChart>
      <c:catAx>
        <c:axId val="5719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87498"/>
        <c:crosses val="autoZero"/>
        <c:auto val="1"/>
        <c:lblAlgn val="ctr"/>
        <c:lblOffset val="100"/>
        <c:noMultiLvlLbl val="0"/>
      </c:catAx>
      <c:valAx>
        <c:axId val="323874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9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8609-FE94-47B7-BB1A-F2CA9C61A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6067-C0E9-4464-922D-5F5884EA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FB16-F02B-45A4-A222-E5464D48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8565-5D2B-491E-99CF-A07696DC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8AE-F762-4D54-9542-91244DB8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A682-1497-482D-86A8-8A7F26F2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275-94B7-4254-9AD0-944ECEA8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0B51-88D6-4F64-997F-51099380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6EC2-F6A4-440D-80A4-D3234ECA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51D-CCE8-487C-A6BC-EE0BC920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BE07-BBA1-4044-915F-9E0CCD9F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B2E4-4686-4195-BD9E-6C33A0C9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4260E-F1E5-4EE9-9A80-B222019E27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