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21065"/>
        <c:axId val="59265622"/>
      </c:barChart>
      <c:catAx>
        <c:axId val="37621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5622"/>
        <c:crosses val="autoZero"/>
        <c:auto val="1"/>
        <c:lblAlgn val="ctr"/>
        <c:lblOffset val="100"/>
        <c:noMultiLvlLbl val="0"/>
      </c:catAx>
      <c:valAx>
        <c:axId val="59265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1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981-AA7A-4215-BA2E-C7EA0B4E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20C-31C6-43AA-887B-693DF199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4C3-936D-4C57-9F99-7326CF96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ED9-CFDF-4A1F-9294-558BEAEC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81C-D49F-4210-B919-AF8A3E22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7D1-C88D-4429-B09B-332395A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986-D772-4333-8461-DE494C0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F1B-5601-41A3-AA3F-2417EFB0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16C-24B9-4796-A004-5CD6193C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8BF-7D07-48AB-A568-E9D5A212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406-84D7-42B2-B99A-BA16CD4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D20-E704-44D2-90F5-05AE6CD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4CD17-A6FC-4BA3-9B31-6D2081F2C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