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87350"/>
        <c:axId val="48662901"/>
      </c:barChart>
      <c:catAx>
        <c:axId val="63287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62901"/>
        <c:crosses val="autoZero"/>
        <c:auto val="1"/>
        <c:lblAlgn val="ctr"/>
        <c:lblOffset val="100"/>
        <c:noMultiLvlLbl val="0"/>
      </c:catAx>
      <c:valAx>
        <c:axId val="48662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87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415-2F8B-413C-9758-8A911B7D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FBC-23B5-4267-A530-E64F48C7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DBB-720E-4DDE-A599-85981342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5DC-0A4B-4144-9C74-5E9A7665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6B8-6D73-40FB-92DE-910B4F73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70A-CF27-41BE-917D-EBFCFFC9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7DE-2A7F-4D82-B0FA-61F3B4A0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866-BC66-4A5A-A439-2DB7A90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2B9-CC2F-42E0-942A-AF21C30D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1E9-A861-4BD3-BBD7-D942FD92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CF5-8359-4532-B396-6EFFF861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C95-5CCC-419F-B764-C3789D8F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6866D-8F1B-4C04-9007-1DC4BAAFE1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