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2698540"/>
        <c:axId val="55257140"/>
      </c:barChart>
      <c:catAx>
        <c:axId val="9269854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257140"/>
        <c:crosses val="autoZero"/>
        <c:auto val="1"/>
        <c:lblAlgn val="ctr"/>
        <c:lblOffset val="100"/>
        <c:noMultiLvlLbl val="0"/>
      </c:catAx>
      <c:valAx>
        <c:axId val="5525714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69854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D7EC-B5C0-45DB-9800-A3E0B7FB7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EF49-95EA-4EC6-9EAA-A96471421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ECFA-930A-4B98-B71D-2EAF36F6D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72F8-3CD0-421B-AD69-AF9ADB3B7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18F4-0824-445E-9A91-AC4BBF49A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799A-D33C-41DB-85A2-5FE9B8BAA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4ABD-B1EC-4A18-8D84-73CAA8A72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4E01-F535-44C3-880E-6719B95EE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071C-9FAC-4E54-A2CD-B0AB0FCFE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2ACB-C6C4-4BEA-8FD4-B778A92BE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D5BD-DADD-4CFA-9F21-2902FA466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B33B-9388-44FC-9F8B-411FE3EF1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C28C38-CD1C-4DB4-A303-0906DD2B31B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