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73480"/>
        <c:axId val="17891773"/>
      </c:barChart>
      <c:catAx>
        <c:axId val="3047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91773"/>
        <c:crosses val="autoZero"/>
        <c:auto val="1"/>
        <c:lblAlgn val="ctr"/>
        <c:lblOffset val="100"/>
        <c:noMultiLvlLbl val="0"/>
      </c:catAx>
      <c:valAx>
        <c:axId val="17891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7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5E8-A4EB-4E5F-8EEF-AD42406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FA3-95E2-468E-BA16-708FFEA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129-0980-4FB8-927C-EA1A8793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033-3B9A-4B65-A6F4-41FB7DC3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8CF-92E4-46F8-8EB0-A6768A1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ACE-CFE5-4A9F-BEAA-EE49D205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78F-6AE8-4B39-9C64-D0D9EEA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A92-7128-4F36-AE92-AA0B086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8CB-EC8D-411A-AC16-0D748FD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7C5-B56F-4337-A286-EBA6DFF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62E-5093-4C88-9C6B-E1BC681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3DA-EE02-493B-9B0E-3493662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AECF1-DCD0-4222-84B5-9BE0D704D0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