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4430140"/>
        <c:axId val="29822447"/>
      </c:barChart>
      <c:catAx>
        <c:axId val="744301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22447"/>
        <c:crosses val="autoZero"/>
        <c:auto val="1"/>
        <c:lblAlgn val="ctr"/>
        <c:lblOffset val="100"/>
        <c:noMultiLvlLbl val="0"/>
      </c:catAx>
      <c:valAx>
        <c:axId val="298224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301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8CD-D5AA-411D-9965-90D75A2B1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16C-1827-44A8-AD6C-3B3107BF0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2FE3-7302-4CF8-AE85-50B8DDB1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CA4-6ADF-43CA-A1BD-F3B7DC864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0CB-923A-4C07-9729-28F4670E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B830-F47C-4360-A490-496D571E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CE39-9ACC-4EA9-BFEE-AD2748DEA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897E-AE1C-482E-BE16-15DB97840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8901-F776-4408-97C5-0895F6C59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0E4E-5C15-4E60-8F8E-DD04978CD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7E8A-E85F-4564-87A7-4D6FFC2EA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9682-4394-4785-8DDD-2D22D88B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D9CA23-148F-4D93-9B3A-9BC7476F01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