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78043"/>
        <c:axId val="34790328"/>
      </c:barChart>
      <c:catAx>
        <c:axId val="43978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90328"/>
        <c:crosses val="autoZero"/>
        <c:auto val="1"/>
        <c:lblAlgn val="ctr"/>
        <c:lblOffset val="100"/>
        <c:noMultiLvlLbl val="0"/>
      </c:catAx>
      <c:valAx>
        <c:axId val="34790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78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422-3D2F-44C4-B91F-E84D5574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2F5-748B-4A9A-89ED-BEB59C76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065-EEC8-4AB5-B8B5-02EA62C3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22F-88A8-4006-978F-3BCB829E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14A-22E0-4F01-86BD-15A616CC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1D8-4BD8-4F48-A1E2-45918C47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D37-8D9E-497D-AC12-89C52B28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BB0-EDAB-469A-8908-2C149F47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630-659F-4F49-8EC8-6C60077A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FB3-83A5-4508-B05C-31E45A69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FDF-0354-44FF-A1C7-A658226A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F26-7B44-47AC-B5C6-D07EAE37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828FB-55C9-4723-A612-39283D7FA0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